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F720-EA81-45C0-A8CE-81E35D0676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3A44-67F6-4621-9F94-FBDCF486B9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on page 5</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1F61-EE8F-4263-B4A6-8E9B46CB91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65F8-7DC7-4218-B625-4E510EBF1A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63512-1CC5-4945-9D35-030A8970F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171F-BB77-4148-9786-A12E6D53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F40F0-208D-4D53-A706-2032703C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BC4AF-F363-4DE6-B1E0-531D507F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B32B-34E2-4F36-822F-44866D581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D833-8738-4A16-B98A-34B43D9D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8BF8-6977-4907-9EE1-84CF38E3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90A9D-B36F-4F40-A209-E42965021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6D1B-6883-4003-BC35-F5D15096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AFEC9-52F6-48B9-BA6D-83964E9A7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E6CB4-A89C-46CC-8A34-5BE4A5709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99633-92F0-4477-85EC-82F39A473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obal Violence Against Women</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3B7B-AA45-41E7-BB99-BD77B7B7A94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obal Violence Against Women</a:t>
            </a:r>
            <a:endParaRPr b="0" lang="en-US" sz="2800" spc="-1" strike="noStrike">
              <a:solidFill>
                <a:srgbClr val="000000"/>
              </a:solidFill>
              <a:latin typeface="Arial"/>
            </a:endParaRPr>
          </a:p>
        </p:txBody>
      </p:sp>
      <p:sp>
        <p:nvSpPr>
          <p:cNvPr id="147"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nada</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against women is a persistent and ongoing proble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no specific criminal code for violence against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s that most commonly apply are assault, sexual assault, criminal harassment, threats of violence, forcible confinement, and homicid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dia</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wry</a:t>
            </a:r>
            <a:r>
              <a:rPr b="0" lang="en-US" sz="2400" spc="-1" strike="noStrike">
                <a:solidFill>
                  <a:srgbClr val="000000"/>
                </a:solidFill>
                <a:latin typeface="Verdana"/>
              </a:rPr>
              <a:t> is a payment of money or articles during, before, or after marriage by a girl’s parent to her in-laws. The cash and presents given must be linked to the actual marriage in order to be considered illegal.</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ride-burning</a:t>
            </a:r>
            <a:r>
              <a:rPr b="0" lang="en-US" sz="2400" spc="-1" strike="noStrike">
                <a:solidFill>
                  <a:srgbClr val="000000"/>
                </a:solidFill>
                <a:latin typeface="Verdana"/>
              </a:rPr>
              <a:t> occurs when in-laws consider the dowry to be inadequate. Women are killed each year when the husband or his family douses the wife with flammable liquid and set her on fire. </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dia</a:t>
            </a:r>
            <a:endParaRPr b="0" lang="en-US" sz="4000" spc="-1" strike="noStrike">
              <a:solidFill>
                <a:srgbClr val="ffffff"/>
              </a:solidFill>
              <a:latin typeface="Verdana"/>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emale foeticide </a:t>
            </a:r>
            <a:r>
              <a:rPr b="0" lang="en-US" sz="2400" spc="-1" strike="noStrike">
                <a:solidFill>
                  <a:srgbClr val="000000"/>
                </a:solidFill>
                <a:latin typeface="Verdana"/>
              </a:rPr>
              <a:t>is the act of aborting a fetus because it is femal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ndreds and perhaps thousands of newborn girls are murdered each year simply because they are female. Little value is given to adult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tio of girls to boys has been decreasing due to these practice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dia</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a has been proactive in passing laws to protect women, but the laws are routinely not enforce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few women seek help from anyone outside their family, such as from the police or social service organizations.</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alaysia</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laysia has a dual legal system of Sharia law and civil law, and they act independently to protect the diverse population that is predominantly Muslim.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94 the One Stop Crisis Centre was formed but lack of funding has called into question its current effectiveness and existence.</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exico</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etal acceptance of violence against women is a pervasive problem in Mexico.</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in five women live in a relationship of physical and/or sexual abuse where domestic abuse is considered to be the most prevalent form of violence in the countr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reforms have been made but do little to challenge the patriarchal, macho, and misogynistic structure of its societ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emicide</a:t>
            </a:r>
            <a:r>
              <a:rPr b="0" lang="en-US" sz="2400" spc="-1" strike="noStrike">
                <a:solidFill>
                  <a:srgbClr val="000000"/>
                </a:solidFill>
                <a:latin typeface="Verdana"/>
              </a:rPr>
              <a:t> is the killing of women because of their gender and has been made a crime.</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ozambique</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gamy is a common practic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until 2009 were domestic violence and marital rape recognized as crimes. The police have been given more power to act on these complain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estic violence continues to be a serious and widespread problem, more than half of women are believed to be victim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lso illegal to engage in sexual activity while knowingly infected with a contagious diseas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ople’s Republic of China</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provisions on domestic violence are too general and lack criminal justice response measur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xual abuse is rarely studied and incest is not acknowledge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5, a “peaceful family” plan was launched and more than 27,000 organizations and 400 shelters have been set up across the country.</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ru</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estic violence laws were passed in 1997 and 2011, but violence is still a serious problem.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forcement is considered weak and few men are ever prosecuted. The legal system is slow to respond to complaints and does not take them seriously. </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ru</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11 there were more women killed by family violence abusers than those who were prosecute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HO has ranked Peru as having one of the highest rates of physical or sexual violence by a partner in the world at 70%.</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ld Health Organization/London School of Hygiene and Tropical Medicine, 2010)</a:t>
            </a:r>
            <a:endParaRPr b="0" lang="en-US" sz="1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a:t>
            </a:r>
            <a:r>
              <a:rPr b="0" i="1" lang="en-US" sz="2800" spc="-1" strike="noStrike">
                <a:solidFill>
                  <a:srgbClr val="000000"/>
                </a:solidFill>
                <a:latin typeface="Verdana"/>
              </a:rPr>
              <a:t>violence against women</a:t>
            </a:r>
            <a:r>
              <a:rPr b="0" lang="en-US" sz="2800" spc="-1" strike="noStrike">
                <a:solidFill>
                  <a:srgbClr val="000000"/>
                </a:solidFill>
                <a:latin typeface="Verdana"/>
              </a:rPr>
              <a:t>.</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the most common form of violence that women around the world experience.</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 specific forms of violence occurring globally.</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between female foeticide and femicide.</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hilippines</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ippine law criminalizes physical, sexual, and psychological harm against women and children from family members but enforcement is not given high priorit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uption by police to include abuse of females in custody is comm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orce is not legal and this leaves women with no real options to leave a spouse other than a legal separation or annulment.</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public of Iraq</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nor killings are widesprea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 half of the population is under the age of 19 and they hold strong patriarchal attitud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ajority of Iraqi men believe they have the right to beat their own wife, to prevent her from going to a medical center, to control the type of dress code she follows, and to force a female child into marriage before she is of legal age to marry.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FPA, 2010)</a:t>
            </a:r>
            <a:endParaRPr b="0" lang="en-US" sz="1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public of Iraq</a:t>
            </a:r>
            <a:endParaRPr b="0" lang="en-US" sz="4000" spc="-1" strike="noStrike">
              <a:solidFill>
                <a:srgbClr val="ffffff"/>
              </a:solidFill>
              <a:latin typeface="Verdana"/>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overnment generally ignores or trivializes violence against women, and the abuse is rarely reported.</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omania</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ssive relationship behavior is considered normal. Many victims are unaware that domestic violence is illegal.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dical-legal approach has developed, which requires a certificate of injuries to be presented to prove victimization, which rarely occurs.  Even if the certificate is obtained, chances are slim the case will be brought to justice. Funding for domestic violence  initiatives is considered a luxur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ital rape is not against the law.</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ussian Federation</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20-30% of all murders  take place within the family and are increasing each year.</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ssian police do not treat these cases as serious and tell victims they will not respond until there is a corpse.</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are frequently beaten to death, shot, or thrown out of windows in Moscow. </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ke, 2007)</a:t>
            </a:r>
            <a:endParaRPr b="0" lang="en-US" sz="1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cotland</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several legal orders and increased funding for domestic violence victims.</a:t>
            </a:r>
            <a:endParaRPr b="0" lang="en-US" sz="2400" spc="-1" strike="noStrike">
              <a:solidFill>
                <a:srgbClr val="000000"/>
              </a:solidFill>
              <a:latin typeface="Verdana"/>
            </a:endParaRPr>
          </a:p>
          <a:p>
            <a:pPr marL="325800" indent="-32580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GBT victims are equally protected.</a:t>
            </a:r>
            <a:endParaRPr b="0" lang="en-US" sz="2400" spc="-1" strike="noStrike">
              <a:solidFill>
                <a:srgbClr val="000000"/>
              </a:solidFill>
              <a:latin typeface="Verdana"/>
            </a:endParaRPr>
          </a:p>
          <a:p>
            <a:pPr marL="325800" indent="-32580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protected are partners who are married, cohabitating, or otherwise, or are ex-partners, regardless of marital status or gender. </a:t>
            </a:r>
            <a:endParaRPr b="0" lang="en-US" sz="2400" spc="-1" strike="noStrike">
              <a:solidFill>
                <a:srgbClr val="000000"/>
              </a:solidFill>
              <a:latin typeface="Verdana"/>
            </a:endParaRPr>
          </a:p>
          <a:p>
            <a:pPr marL="325800" indent="-32580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omestic violence case is reported to the police every 10 minutes. 15% of victims are male with a female perpetrator.</a:t>
            </a:r>
            <a:endParaRPr b="0" lang="en-US" sz="2400" spc="-1" strike="noStrike">
              <a:solidFill>
                <a:srgbClr val="000000"/>
              </a:solidFill>
              <a:latin typeface="Verdana"/>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ttish Government, 2009)</a:t>
            </a:r>
            <a:endParaRPr b="0" lang="en-US" sz="1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ailand</a:t>
            </a:r>
            <a:endParaRPr b="0" lang="en-US" sz="4000" spc="-1" strike="noStrike">
              <a:solidFill>
                <a:srgbClr val="ffffff"/>
              </a:solidFill>
              <a:latin typeface="Verdana"/>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d domestic violence legislation in 2007. Any person can report the abuse in addition to the victim.</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sis centers operate in some state-run hospitals along with hotlines, temporary shelters, and counseling services.</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amily violence law manual was put out by the government and judges and police officers across the country have attended gender sensitivity training. </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lobal Violence</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violence affects millions of women, men, and children worldwide.</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response is based on cultural, economic, social, and political contexts.</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are the most frequent targets of intimate partner violence.</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against women is a global crisis of staggering proportion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lobal Violenc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s of violence include threats of violence, coercion, or arbitrary deprivation of liberty, whether occurring in public or private life.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can include physical, sexual, or psychological violence within the family, community, or condoned by the state.</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mbating Violence</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2012 the U.S. released its first ever strategy to prevent and respond to gender-based violence globally with four key objective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 coordination of gender-based violence prevention and response effort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hance integration of gender-based violence prevention.</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e collection, analysis, and use of data and research to enhance gender-based violence and prevention effort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hance or expand U.S. government programming that addresses gender-based violence.</a:t>
            </a:r>
            <a:endParaRPr b="0" lang="en-US" sz="2200" spc="-1" strike="noStrike">
              <a:solidFill>
                <a:srgbClr val="000000"/>
              </a:solidFill>
              <a:latin typeface="Verdana"/>
            </a:endParaRPr>
          </a:p>
          <a:p>
            <a:pPr lvl="1" marL="743040" indent="-285840">
              <a:spcBef>
                <a:spcPts val="49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United Nations</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 leads the effort to protect vulnerable women and girls worldwide and adopted the Declaration on the Elimination of Violence against Women in 1993.</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 General Assembly accepted a resolution in December 2012 on the elimination of Female Genital Mutilation (FGM), which includes procedures that intentionally alter or cause injury to the female genital organs for non-medical reasons without any health benefits. </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uropean Countries</a:t>
            </a:r>
            <a:endParaRPr b="0" lang="en-US" sz="4000" spc="-1" strike="noStrike">
              <a:solidFill>
                <a:srgbClr val="ffffff"/>
              </a:solidFill>
              <a:latin typeface="Verdana"/>
            </a:endParaRPr>
          </a:p>
        </p:txBody>
      </p:sp>
      <p:sp>
        <p:nvSpPr>
          <p:cNvPr id="159"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two common points of law in European countrie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acts of intimate partner violence are recognized as crimes and fall under the provisions of the penal cod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s are allowed to request measures of protection from the state, and vary from financial assistance to restraining orders.</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fghanistan</a:t>
            </a:r>
            <a:endParaRPr b="0" lang="en-US" sz="4000" spc="-1" strike="noStrike">
              <a:solidFill>
                <a:srgbClr val="ffffff"/>
              </a:solidFill>
              <a:latin typeface="Verdana"/>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reforms have been made but there is no official reporting on violence against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nor killings </a:t>
            </a:r>
            <a:r>
              <a:rPr b="0" lang="en-US" sz="2400" spc="-1" strike="noStrike">
                <a:solidFill>
                  <a:srgbClr val="000000"/>
                </a:solidFill>
                <a:latin typeface="Verdana"/>
              </a:rPr>
              <a:t>are common and have spread to other countries through immigration. This is a traditional practice in which men kill a female relative who is believed to have brought dishonor upon the family or communit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nesty International reports alarming numbers of females attempting suicide by dousing themselves with gasoline and setting themselves on fire.</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ustralia</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islative changes have been made to give police more authority to act in cases of suspected partner viole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original women are overrepresented as victims of viole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priate intervention designed to improve access to legal services for aboriginal females has been instituted. </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3:56:47Z</dcterms:modified>
  <cp:revision>46</cp:revision>
  <dc:subject/>
  <dc:title>Slide 1</dc:title>
</cp:coreProperties>
</file>